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145B-87A8-4A85-8065-D4776C305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3EAE-2C5E-44F9-A62A-21A0A7E4B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FE2F-5136-4F98-ADEE-F63FA5BA5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D9FA-617F-4869-A673-91D7EC794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D95B-4EDE-466B-A21E-1A60D11D8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CEDE-6F3C-4F59-916A-BDF4D2C09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E776-4249-411E-BAA5-B3E52435E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BBC8-D785-4D95-A369-97281078B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40BA-9595-4C7F-AD7D-4F22AD857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6531-E617-4A51-A9D1-C534C1629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5670-0CD9-418A-8847-C6F46E9BA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2ADF-D4E0-4278-8392-97B07E2E7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3" name="Group 4"/>
            <p:cNvGrpSpPr/>
            <p:nvPr/>
          </p:nvGrpSpPr>
          <p:grpSpPr>
            <a:xfrm>
              <a:off x="-19080" y="203040"/>
              <a:ext cx="9153720" cy="644760"/>
              <a:chOff x="-19080" y="203040"/>
              <a:chExt cx="9153720" cy="644760"/>
            </a:xfrm>
          </p:grpSpPr>
          <p:pic>
            <p:nvPicPr>
              <p:cNvPr id="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1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Group 7"/>
            <p:cNvGrpSpPr/>
            <p:nvPr/>
          </p:nvGrpSpPr>
          <p:grpSpPr>
            <a:xfrm>
              <a:off x="-19080" y="247680"/>
              <a:ext cx="9177480" cy="558720"/>
              <a:chOff x="-19080" y="247680"/>
              <a:chExt cx="9177480" cy="558720"/>
            </a:xfrm>
          </p:grpSpPr>
          <p:pic>
            <p:nvPicPr>
              <p:cNvPr id="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561B8-3DA6-426B-BF05-354E9C67B9B9}" type="slidenum"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57200" y="276120"/>
            <a:ext cx="82296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John Willi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ntibiotics: Positive VS Negative Effect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83" name="Group 2"/>
          <p:cNvGrpSpPr/>
          <p:nvPr/>
        </p:nvGrpSpPr>
        <p:grpSpPr>
          <a:xfrm>
            <a:off x="457200" y="228600"/>
            <a:ext cx="4035600" cy="3025800"/>
            <a:chOff x="457200" y="228600"/>
            <a:chExt cx="4035600" cy="302580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403560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"/>
            <p:cNvSpPr/>
            <p:nvPr/>
          </p:nvSpPr>
          <p:spPr>
            <a:xfrm>
              <a:off x="457200" y="228600"/>
              <a:ext cx="40356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86" name="Group 5"/>
          <p:cNvGrpSpPr/>
          <p:nvPr/>
        </p:nvGrpSpPr>
        <p:grpSpPr>
          <a:xfrm>
            <a:off x="4648320" y="228600"/>
            <a:ext cx="4037040" cy="3027240"/>
            <a:chOff x="4648320" y="228600"/>
            <a:chExt cx="4037040" cy="3027240"/>
          </a:xfrm>
        </p:grpSpPr>
        <p:pic>
          <p:nvPicPr>
            <p:cNvPr id="87" name="Picture 6" descr=""/>
            <p:cNvPicPr/>
            <p:nvPr/>
          </p:nvPicPr>
          <p:blipFill>
            <a:blip r:embed="rId2"/>
            <a:stretch/>
          </p:blipFill>
          <p:spPr>
            <a:xfrm>
              <a:off x="4648320" y="228600"/>
              <a:ext cx="403704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7"/>
            <p:cNvSpPr/>
            <p:nvPr/>
          </p:nvSpPr>
          <p:spPr>
            <a:xfrm>
              <a:off x="4648320" y="228600"/>
              <a:ext cx="403704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Teaching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created a PowerPoint as a guideline for teaching the clas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PowerPoint was presented to the class while I went in detail in the subjec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88800" y="235080"/>
            <a:ext cx="40640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4648320" y="228600"/>
            <a:ext cx="4038480" cy="3029040"/>
            <a:chOff x="4648320" y="228600"/>
            <a:chExt cx="4038480" cy="3029040"/>
          </a:xfrm>
        </p:grpSpPr>
        <p:pic>
          <p:nvPicPr>
            <p:cNvPr id="96" name="Picture 6" descr=""/>
            <p:cNvPicPr/>
            <p:nvPr/>
          </p:nvPicPr>
          <p:blipFill>
            <a:blip r:embed="rId2"/>
            <a:stretch/>
          </p:blipFill>
          <p:spPr>
            <a:xfrm>
              <a:off x="4648320" y="22860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/>
            <p:cNvSpPr/>
            <p:nvPr/>
          </p:nvSpPr>
          <p:spPr>
            <a:xfrm>
              <a:off x="4648320" y="228600"/>
              <a:ext cx="403848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415800" y="3505320"/>
            <a:ext cx="4040280" cy="3028680"/>
            <a:chOff x="415800" y="3505320"/>
            <a:chExt cx="4040280" cy="3028680"/>
          </a:xfrm>
        </p:grpSpPr>
        <p:pic>
          <p:nvPicPr>
            <p:cNvPr id="99" name="Picture 9" descr=""/>
            <p:cNvPicPr/>
            <p:nvPr/>
          </p:nvPicPr>
          <p:blipFill>
            <a:blip r:embed="rId3"/>
            <a:stretch/>
          </p:blipFill>
          <p:spPr>
            <a:xfrm>
              <a:off x="415800" y="3505320"/>
              <a:ext cx="404028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415800" y="3505320"/>
              <a:ext cx="4040280" cy="30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101" name="Picture 11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-15840" y="152280"/>
            <a:ext cx="2962080" cy="3949920"/>
            <a:chOff x="-15840" y="152280"/>
            <a:chExt cx="2962080" cy="3949920"/>
          </a:xfrm>
        </p:grpSpPr>
        <p:pic>
          <p:nvPicPr>
            <p:cNvPr id="106" name="Picture 5" descr=""/>
            <p:cNvPicPr/>
            <p:nvPr/>
          </p:nvPicPr>
          <p:blipFill>
            <a:blip r:embed="rId1"/>
            <a:stretch/>
          </p:blipFill>
          <p:spPr>
            <a:xfrm>
              <a:off x="-15840" y="152280"/>
              <a:ext cx="296208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6"/>
            <p:cNvSpPr/>
            <p:nvPr/>
          </p:nvSpPr>
          <p:spPr>
            <a:xfrm>
              <a:off x="-15840" y="152280"/>
              <a:ext cx="2962080" cy="39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108" name="Group 7"/>
          <p:cNvGrpSpPr/>
          <p:nvPr/>
        </p:nvGrpSpPr>
        <p:grpSpPr>
          <a:xfrm>
            <a:off x="6180120" y="152280"/>
            <a:ext cx="2962440" cy="3949920"/>
            <a:chOff x="6180120" y="152280"/>
            <a:chExt cx="2962440" cy="3949920"/>
          </a:xfrm>
        </p:grpSpPr>
        <p:pic>
          <p:nvPicPr>
            <p:cNvPr id="109" name="Picture 8" descr=""/>
            <p:cNvPicPr/>
            <p:nvPr/>
          </p:nvPicPr>
          <p:blipFill>
            <a:blip r:embed="rId2"/>
            <a:stretch/>
          </p:blipFill>
          <p:spPr>
            <a:xfrm>
              <a:off x="6180120" y="152280"/>
              <a:ext cx="296244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9"/>
            <p:cNvSpPr/>
            <p:nvPr/>
          </p:nvSpPr>
          <p:spPr>
            <a:xfrm>
              <a:off x="6180120" y="152280"/>
              <a:ext cx="2962440" cy="39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3048120" y="1522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76320" y="42670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5"/>
          <a:stretch/>
        </p:blipFill>
        <p:spPr>
          <a:xfrm>
            <a:off x="5715000" y="4273560"/>
            <a:ext cx="334008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457200" y="304920"/>
            <a:ext cx="4038480" cy="3028680"/>
            <a:chOff x="457200" y="304920"/>
            <a:chExt cx="4038480" cy="3028680"/>
          </a:xfrm>
        </p:grpSpPr>
        <p:pic>
          <p:nvPicPr>
            <p:cNvPr id="118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403848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6"/>
            <p:cNvSpPr/>
            <p:nvPr/>
          </p:nvSpPr>
          <p:spPr>
            <a:xfrm>
              <a:off x="457200" y="304920"/>
              <a:ext cx="4038480" cy="30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120" name="Group 7"/>
          <p:cNvGrpSpPr/>
          <p:nvPr/>
        </p:nvGrpSpPr>
        <p:grpSpPr>
          <a:xfrm>
            <a:off x="4648320" y="304920"/>
            <a:ext cx="4039920" cy="3028680"/>
            <a:chOff x="4648320" y="304920"/>
            <a:chExt cx="4039920" cy="3028680"/>
          </a:xfrm>
        </p:grpSpPr>
        <p:pic>
          <p:nvPicPr>
            <p:cNvPr id="121" name="Picture 8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403992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9"/>
            <p:cNvSpPr/>
            <p:nvPr/>
          </p:nvSpPr>
          <p:spPr>
            <a:xfrm>
              <a:off x="4648320" y="304920"/>
              <a:ext cx="4039920" cy="30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123" name="Picture 10" descr=""/>
          <p:cNvPicPr/>
          <p:nvPr/>
        </p:nvPicPr>
        <p:blipFill>
          <a:blip r:embed="rId3"/>
          <a:stretch/>
        </p:blipFill>
        <p:spPr>
          <a:xfrm>
            <a:off x="46512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ccesses and Challenges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ucce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ime manage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aper and Product finished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 was able to raise about 100 dollars for ECU’s Medical and Health Science Found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halleng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rganiz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urce Scarc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nding something to do for the Produ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ere to Next?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e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I will take aw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5572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5572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Knowledge of Resist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5572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Business Skill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8160" cy="65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American Anthrax Outbreak of 2001." UCLA School of Public Health | Building Healthy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Futures... Web. 05 Apr. 2011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&lt;http://www.ph.ucla.edu/epi/bioter/detect/antdetect_intro.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Antibiotics: MedlinePlus." National Library of Medicine - National Institutes of Health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Web. 04 Apr. 2011. &lt;http://www.nlm.nih.gov/medlineplus/antibiotics.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Attorney General." CT.gov Portal. Web. 05 Apr. 2011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&lt;http://www.ct.gov/ag/cwp/view.asp?A=1776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CDC Anthrax Q &amp; A: Preventive Therapy." CDC Emergency Preparedness &amp; Response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Site. Web. 05 Apr. 2011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&lt;http://www.bt.cdc.gov/agent/anthrax/faq/preventive.asp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Cirz RT, Chin JK, Andes DR, de Crécy-Lagard V, Craig WA, et al. Inhibition of Mutation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and Combating the Evolution of Antibiotic Resistance. PloS Magazine. June 2005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General Background: About Antibiotic Resistance." Tufts University. Web. 05 Apr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2011. &lt;http://www.tufts.edu/med/apua/about_issue/about_antibioticres.s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General Background: About Bacteria &amp; Antibiotics." Tufts University. Web. 05 Apr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2011. &lt;http://www.tufts.edu/med/apua/about_issue/about_bacteria.s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General Background: Bioterrorism &amp; Stockpiling Antibiotics." Tufts University. Web. 05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Apr. 2011. &lt;http://www.tufts.edu/med/apua/about_issue/bioterrorism.s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Mayer, Gene. "Antibiotics." Biomedical Sciences Graduate Program. Web. 05 Apr. 2011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&lt;http://pathmicro.med.sc.edu/mayer/antibiot.htm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Smith DL, Dushoff J, Morris JG Jr. Agricultural Antibiotics and Human Health. PloS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Magazine.  July 2005</a:t>
            </a:r>
            <a:br>
              <a:rPr sz="12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4680"/>
            <a:ext cx="822816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Education Exempt from Copyright: This presentation has been prepared under the fair use exemtion of the US Copyright Law and is restricted from further us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ny Questions?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nterest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edical Fie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would require me to know about the concept of resista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aper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935000"/>
            <a:ext cx="82296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iving Question: Are antibiotics more harmful than helpful and what can we, as people, do to prevent bacteria from becoming resistant to them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sis Stat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More harmful than helpfu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Agricul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Bioterroris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Preventing resist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Proper dosag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Reducing stockpil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aper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resting Facts I learned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996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Before, I didn't know that bacteria of different species could exchange genetic information via conjugation, a mating proces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6996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Antibiotic resistance can affect how well crops grow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6996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Proper dosages affect everyday lif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mmary of What I Learned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learned many things while doing the NCGP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Concept of resist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Time Manage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Public Speak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roduct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und Raising for ECU’s Medical and Health Sciences Found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ing a class about my top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did not have a Men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Fund Raising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made cake pops to sell for 5o cents ea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made a total profit of around 100 dolla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made a Facebook Event that invited everyone I could to participa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CU’s Medical and Health Science Foundation is for educating and researching things in the Medical and Health Science field, including antibiotic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457200" y="228600"/>
            <a:ext cx="4035600" cy="3025800"/>
            <a:chOff x="457200" y="228600"/>
            <a:chExt cx="4035600" cy="302580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403560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4"/>
            <p:cNvSpPr/>
            <p:nvPr/>
          </p:nvSpPr>
          <p:spPr>
            <a:xfrm>
              <a:off x="457200" y="228600"/>
              <a:ext cx="40356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6"/>
          <p:cNvGrpSpPr/>
          <p:nvPr/>
        </p:nvGrpSpPr>
        <p:grpSpPr>
          <a:xfrm>
            <a:off x="457200" y="3429000"/>
            <a:ext cx="4037040" cy="3027240"/>
            <a:chOff x="457200" y="3429000"/>
            <a:chExt cx="4037040" cy="3027240"/>
          </a:xfrm>
        </p:grpSpPr>
        <p:pic>
          <p:nvPicPr>
            <p:cNvPr id="70" name="Picture 7" descr=""/>
            <p:cNvPicPr/>
            <p:nvPr/>
          </p:nvPicPr>
          <p:blipFill>
            <a:blip r:embed="rId3"/>
            <a:stretch/>
          </p:blipFill>
          <p:spPr>
            <a:xfrm>
              <a:off x="457200" y="3429000"/>
              <a:ext cx="403704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8"/>
            <p:cNvSpPr/>
            <p:nvPr/>
          </p:nvSpPr>
          <p:spPr>
            <a:xfrm>
              <a:off x="457200" y="3429000"/>
              <a:ext cx="403704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72" name="Picture 9" descr=""/>
          <p:cNvPicPr/>
          <p:nvPr/>
        </p:nvPicPr>
        <p:blipFill>
          <a:blip r:embed="rId4"/>
          <a:stretch/>
        </p:blipFill>
        <p:spPr>
          <a:xfrm>
            <a:off x="4605480" y="340524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457200" y="228600"/>
            <a:ext cx="4035600" cy="3025800"/>
            <a:chOff x="457200" y="228600"/>
            <a:chExt cx="4035600" cy="3025800"/>
          </a:xfrm>
        </p:grpSpPr>
        <p:pic>
          <p:nvPicPr>
            <p:cNvPr id="75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403560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4"/>
            <p:cNvSpPr/>
            <p:nvPr/>
          </p:nvSpPr>
          <p:spPr>
            <a:xfrm>
              <a:off x="457200" y="228600"/>
              <a:ext cx="40356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77" name="Group 5"/>
          <p:cNvGrpSpPr/>
          <p:nvPr/>
        </p:nvGrpSpPr>
        <p:grpSpPr>
          <a:xfrm>
            <a:off x="4572000" y="228600"/>
            <a:ext cx="4037040" cy="3027240"/>
            <a:chOff x="4572000" y="228600"/>
            <a:chExt cx="4037040" cy="3027240"/>
          </a:xfrm>
        </p:grpSpPr>
        <p:pic>
          <p:nvPicPr>
            <p:cNvPr id="78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228600"/>
              <a:ext cx="403704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4572000" y="228600"/>
              <a:ext cx="403704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7:05:48Z</dcterms:created>
  <dc:creator>John</dc:creator>
  <dc:description/>
  <dc:language>en-US</dc:language>
  <cp:lastModifiedBy>John</cp:lastModifiedBy>
  <dcterms:modified xsi:type="dcterms:W3CDTF">2012-04-17T18:19:45Z</dcterms:modified>
  <cp:revision>15</cp:revision>
  <dc:subject/>
  <dc:title>PowerPoint Presentation</dc:title>
</cp:coreProperties>
</file>